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940-102F-4DF1-9CEB-C249C1E8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39E-ED8E-4BDF-A0A5-AD1D681E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CEF-118C-4F57-8D0C-A242D5ED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E01-0C82-413E-AC79-82A99ABC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EC2-B91D-4DFF-BB22-7AB4CF43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867-EACD-4EF3-9452-30BAA37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E49-38F8-45D1-AF9B-E551AFC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1D1-E4DD-4E89-8188-7445B377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B9E-6A50-44D5-9E13-C54AE2D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428-B051-4697-9198-14C1B38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5F1-56EC-4E7D-8BA7-30F1BB08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687-0071-47B7-A8B5-902C9F1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30A-7659-46DE-86A9-DCD6C7A16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D:\Backup\&#25105;&#30340;&#25991;&#26723;\&#20154;&#23454;&#20843;&#19978;&#35838;&#20214;\&#31532;&#20116;&#21333;&#20803;\23&#26680;&#33311;&#35760;\&#26680;&#33311;&#35760;.avi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image" Target="../media/image17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066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两膝相比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1066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他们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29528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25780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07120" y="16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而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左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55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他的指佛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13240" y="2362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人视端容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632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那，那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31520" y="30481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则题名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3000" y="3048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指船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90680" y="35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色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37120" y="3657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它的，指字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692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长曾不盈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代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-720" y="5410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0200" y="4906800"/>
            <a:ext cx="33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东坡右手执卷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10200" y="49528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一头，一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4480" y="5943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其人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容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21640" y="594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960" y="26208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514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219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3255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83800" y="9144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高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二黍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70920" y="83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4480" y="167652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珠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历历数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560" y="28195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3440" y="2209680"/>
            <a:ext cx="33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宫室；盖简桃核修狭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1424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雕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10360" y="28195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中轩敞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舱；中峨冠而多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8120" y="3459240"/>
            <a:ext cx="38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人五；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窗八；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字共三十有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00040" y="345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刻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880" y="50292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9560" y="403848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能以径寸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25400" y="4602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箬篷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8080" y="464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代船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37560" y="513540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闭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2280" y="5105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指窗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38000" y="571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石青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42040" y="5715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指刻字的凹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71640" y="6278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左臂挂念珠倚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61360" y="6278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指竖起的左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51800" y="163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8480" y="2819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3434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604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1752480"/>
            <a:ext cx="381240" cy="1524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41972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89160"/>
            <a:ext cx="42638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明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奇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巧人曰王叔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舟首尾长约八分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0920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3288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0480" y="495288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4160" y="21337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11200" y="396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启窗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80320" y="579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表转折，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15840" y="571500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计其长曾不盈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962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03680" y="4876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中峨冠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多髯者为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7384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表承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94920" y="106668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结合注释译文，教师点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4920" y="1989000"/>
            <a:ext cx="830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2057400" cy="868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整体感知，理清文章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是以什么顺序来说明“核舟”的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4880" y="3505320"/>
            <a:ext cx="107964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35720" y="3525840"/>
            <a:ext cx="66852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525840"/>
            <a:ext cx="100980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7040" y="3525840"/>
            <a:ext cx="66852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505320"/>
            <a:ext cx="121932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3657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876920"/>
            <a:ext cx="33530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4267080"/>
            <a:ext cx="0" cy="6098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空间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5257800"/>
            <a:ext cx="106668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正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257800"/>
            <a:ext cx="114300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502920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5562720"/>
            <a:ext cx="25146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6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6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466440" y="4114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势象形，各具情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52720" y="571500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苏泛赤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研读第一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作者是怎样称赞王叔远的雕刻技艺的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王叔远雕刻的特点是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作者得到的核舟是什么内容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600" y="279576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奇巧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材料微小，工艺精细，题材生动，构思巧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继续研讨课文，文本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3048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讨论第二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这一段的内容是什么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这一段文字在说明船舱中间的情形时，重点说明了什么内容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8840" y="213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主要说明船舱的结构形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42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八扇小窗和所刻的苏轼十六字文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876920" y="40384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810400" y="0"/>
            <a:ext cx="3333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除说明船舱外，这段文字还有没有其他的说明内容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整个核舟只有“八分”长，“二黍高”。船舱就更是微不足道了。作者却在船舱的说明中强调窗户之多，文字之众，你以为有什么用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09400" y="1676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开头一句总体说明了核舟的长度与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334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正是抓住重点，突出各部分的重点，紧扣了“奇巧、灵怪”这一说明核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领会苏轼文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领会其诗情画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从修辞角度分析，如衬托、对偶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为下文有关苏轼形象的理解作铺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 rot="5400000">
            <a:off x="5462640" y="2919240"/>
            <a:ext cx="5229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山高月小 水落石出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1771560" y="3143160"/>
            <a:ext cx="5172120" cy="8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清风徐来 水波不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1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6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1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分析讨论第三、四段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三段是介绍船头部分，作者在介绍船头时主要介绍了哪些内容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760" y="29113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三个主要人物的雕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8862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作者是如何介绍这三个人物的？ 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876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先交代三人所处的位置，然后逐一写他们的动作、衣着、体貌、神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91120" y="3886200"/>
            <a:ext cx="495288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38088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latin typeface="隶书"/>
              </a:rPr>
              <a:t>核舟记</a:t>
            </a:r>
            <a:endParaRPr b="1" lang="en-US" sz="66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20574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魏学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/>
          </p:cNvPr>
          <p:cNvSpPr/>
          <p:nvPr/>
        </p:nvSpPr>
        <p:spPr>
          <a:xfrm>
            <a:off x="1752480" y="518148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7301"/>
                </a:moveTo>
                <a:lnTo>
                  <a:pt x="8309" y="7301"/>
                </a:lnTo>
                <a:lnTo>
                  <a:pt x="8692" y="7667"/>
                </a:lnTo>
                <a:lnTo>
                  <a:pt x="17900" y="7667"/>
                </a:lnTo>
                <a:lnTo>
                  <a:pt x="18457" y="8224"/>
                </a:lnTo>
                <a:lnTo>
                  <a:pt x="18457" y="8772"/>
                </a:lnTo>
                <a:lnTo>
                  <a:pt x="20302" y="8772"/>
                </a:lnTo>
                <a:lnTo>
                  <a:pt x="20668" y="8224"/>
                </a:lnTo>
                <a:lnTo>
                  <a:pt x="21408" y="8224"/>
                </a:lnTo>
                <a:lnTo>
                  <a:pt x="21408" y="13376"/>
                </a:lnTo>
                <a:lnTo>
                  <a:pt x="20668" y="13376"/>
                </a:lnTo>
                <a:lnTo>
                  <a:pt x="20302" y="12828"/>
                </a:lnTo>
                <a:lnTo>
                  <a:pt x="18457" y="12828"/>
                </a:lnTo>
                <a:lnTo>
                  <a:pt x="18457" y="14107"/>
                </a:lnTo>
                <a:lnTo>
                  <a:pt x="8874" y="14107"/>
                </a:lnTo>
                <a:lnTo>
                  <a:pt x="8874" y="9877"/>
                </a:lnTo>
                <a:lnTo>
                  <a:pt x="8692" y="9877"/>
                </a:lnTo>
                <a:lnTo>
                  <a:pt x="8309" y="10243"/>
                </a:lnTo>
                <a:lnTo>
                  <a:pt x="739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324480" cy="4497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27440" y="4648320"/>
            <a:ext cx="4516560" cy="946080"/>
          </a:xfr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中峨冠而多髯者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东坡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宋代著名文学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2209680"/>
            <a:ext cx="2819520" cy="1905120"/>
          </a:xfr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鲁直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居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黄庭坚，字鲁直，宋代文学家，也是苏轼的朋友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6095880"/>
            <a:ext cx="6324840" cy="762120"/>
          </a:xfr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佛印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居右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是个和尚，苏轼的朋友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1520" y="457200"/>
            <a:ext cx="15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三人姿态、神情各有特色，可见“奇巧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00200"/>
            <a:ext cx="1295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位置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9920" y="260280"/>
            <a:ext cx="4564080" cy="6597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600200"/>
            <a:ext cx="4537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苏、黄共阅一手卷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东坡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右手执卷端，左手抚鲁直背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鲁直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左手执卷末，右手指卷，如有所语。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东坡现右足，鲁直现左足，各微侧，其两膝相比者，各隐卷底衣褶中。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 rot="577200">
            <a:off x="2666880" y="0"/>
            <a:ext cx="251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动作 神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500720" cy="5877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1954080"/>
            <a:ext cx="4316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佛印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绝类弥勒，袒胸露乳，矫首昂视，神情与苏、黄不属。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卧右膝，诎右臂支船，而竖其左膝，左臂挂念珠倚之，珠可历历数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 rot="577200">
            <a:off x="1066680" y="380880"/>
            <a:ext cx="251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动作 神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6624720" cy="4292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5800" y="129528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尾横卧一楫。楫左右</a:t>
            </a:r>
            <a:r>
              <a:rPr b="1" lang="zh-CN" sz="3600" spc="-1" strike="noStrike" u="sng">
                <a:solidFill>
                  <a:srgbClr val="ff66cc"/>
                </a:solidFill>
                <a:uFillTx/>
                <a:latin typeface="楷体_GB2312"/>
                <a:ea typeface="楷体_GB2312"/>
              </a:rPr>
              <a:t>舟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一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04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四段作者是如何描写舟尾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2438280"/>
            <a:ext cx="9144000" cy="4419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14400" y="3200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舟子神态、动作、神情刻画细致，动静相兼，动静对照，相映成趣，实在“奇巧”。作者只用寥寥数语就准确生动地展示出了王叔远“因势象形，各具情态”的绝妙的雕刻技艺，可见语言的准确、简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202360" y="0"/>
            <a:ext cx="3674880" cy="4114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105520" y="4267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居右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椎髻仰面，左手倚一衡木，右手攀右趾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若啸呼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80880" y="2743200"/>
            <a:ext cx="4724640" cy="4114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28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居左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手执蒲葵扇，左手抚炉，炉上有壶，其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视端容寂，若听茶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分析讨论第五段：介绍舟的背面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作者是如何介绍船背面的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8288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船背虽是略写，也是先总写它的形状“稍夷”，再分别介绍上面的题字、篆章的内容、大小、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细若蚊足，钩画了了”用比喻的方法再次表现王叔远高超的雕刻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76960" y="3886200"/>
            <a:ext cx="12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哪些地方表现了高超的雕刻技艺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分析讨论第六段：对“核舟”总结、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者用了什么说明方法介绍核舟？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2743200"/>
            <a:ext cx="7696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列数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说明雕刻的事物之多，间接表现了王叔远雕刻技艺的高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作比较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核舟容量之大和它的体积之小作对比，突出了工艺之精细、奇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最后一句用了什么表达方式？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直抒胸臆。表达了对王叔远精湛的雕刻艺术的由衷的赞叹。点明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疑难解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写舟的正面不是按照“船头—中间—船尾”这样的顺序写，而是将船头和中间部分的顺序加以颠倒。为什么要这样写？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133720"/>
            <a:ext cx="91440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方正姚体"/>
              </a:rPr>
              <a:t>一是核舟的中间部分是舱，高起而宽敞，十分引人注目，舱边的窗竟然可以关闭，由此说起能够引发读者的兴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方正姚体"/>
              </a:rPr>
              <a:t>二是窗上又刻有苏轼《赤壁赋》《后赤壁赋》中写景的名句，可以使读者通过想象感知苏轼当年泛舟赤壁时的优美环境。这后一个原因尤为重要──如果我们把核舟比作一幅图画的话，那么，苏、黄、佛印三位泛舟者所在的船头是画的主体部分，而船舱就是背景部分了；先写背景，不仅可以引人入胜，还可以使读者初步领略这个环境中的特殊氛围。如果按正常顺序先写船头次写船舱，就不会产生这样的艺术效果。至于最后写船尾，这用不着细说，那两个舟子显然是用来烘托船头的三位游者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133720" y="13716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一、概述王叔远高超的雕刻技巧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1600200"/>
            <a:ext cx="457200" cy="3600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895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二、详写核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3280" y="3500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47372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2362320"/>
            <a:ext cx="10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细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致动观说察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13372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2362320"/>
            <a:ext cx="100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2666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空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33760" y="4846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三、总述并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3623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26668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0120" y="2209680"/>
            <a:ext cx="75960" cy="198144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0"/>
            <a:ext cx="2209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主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者链接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魏学洢，字子敬，明朝末年著名散文作家。著有《茅檐集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本文选自清朝张潮编辑的《虞初新志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937" t="9898" r="7437" b="0"/>
          <a:stretch/>
        </p:blipFill>
        <p:spPr>
          <a:xfrm>
            <a:off x="762120" y="4038480"/>
            <a:ext cx="7343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本文题目有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“记”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字，是否意味着是记叙文？它与《桃花源记》是不是同一种文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所“记”的对象和内容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《桃花源记》“记”的是“桃花源”实地实景，显然属游记类性质的记叙文；而《核舟记》“记”的是一“核舟”，一件工艺品，目的是要展示我国古代能工巧匠的绝顶智慧，要写成说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表达方式和语言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《桃花源记》几乎一律用描写文字，对其环境、场景、气氛、人物等作了细致入微的刻画渲染；《核舟记》则多用客观的说明性语言，采用多种科学的说明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29240"/>
            <a:ext cx="1143000" cy="1176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657600" y="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读课文，找出重点词语，正音或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正音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罔（         ）膝（      ）褶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髻（        ）倚（        ）戌（         ）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篆（         ）八分有（      ）奇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99120" y="238932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ǎ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720" y="23274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57920" y="23893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10040" y="3760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2040" y="37609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2228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82080" y="52084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29200" y="520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143000"/>
            <a:ext cx="480060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①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诎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右臂支船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手倚一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木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舟首尾长约八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奇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虞山王毅叔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甫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刻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295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通“屈”，弯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5909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通“横”，横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2280" y="3809880"/>
            <a:ext cx="4311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同“又”，用在整数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零数之间计算数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334120"/>
            <a:ext cx="39625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甫”通“父”，男子美称，多附于字之后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1760" y="1874880"/>
            <a:ext cx="15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尝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余核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620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40840" y="228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贻误，贻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33920"/>
            <a:ext cx="18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高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可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二黍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04080" y="315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408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720" y="480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640" y="579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答应或表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8120" y="1295280"/>
            <a:ext cx="1751760" cy="1602000"/>
            <a:chOff x="3048120" y="1295280"/>
            <a:chExt cx="1751760" cy="1602000"/>
          </a:xfrm>
        </p:grpSpPr>
        <p:sp>
          <p:nvSpPr>
            <p:cNvPr id="82" name=""/>
            <p:cNvSpPr/>
            <p:nvPr/>
          </p:nvSpPr>
          <p:spPr>
            <a:xfrm>
              <a:off x="3371760" y="23158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5480" y="1295280"/>
              <a:ext cx="154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00200"/>
              <a:ext cx="207360" cy="114300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743200" y="3200400"/>
            <a:ext cx="1668240" cy="1602000"/>
            <a:chOff x="2743200" y="3200400"/>
            <a:chExt cx="1668240" cy="1602000"/>
          </a:xfrm>
        </p:grpSpPr>
        <p:sp>
          <p:nvSpPr>
            <p:cNvPr id="86" name=""/>
            <p:cNvSpPr/>
            <p:nvPr/>
          </p:nvSpPr>
          <p:spPr>
            <a:xfrm>
              <a:off x="3056400" y="42210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40840" y="320040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5053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819520" y="4800600"/>
            <a:ext cx="1667880" cy="1602000"/>
            <a:chOff x="2819520" y="4800600"/>
            <a:chExt cx="1667880" cy="1602000"/>
          </a:xfrm>
        </p:grpSpPr>
        <p:sp>
          <p:nvSpPr>
            <p:cNvPr id="90" name=""/>
            <p:cNvSpPr/>
            <p:nvPr/>
          </p:nvSpPr>
          <p:spPr>
            <a:xfrm>
              <a:off x="3132720" y="58212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17160" y="4800600"/>
              <a:ext cx="147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51055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7360" y="1600200"/>
            <a:ext cx="20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其两膝相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比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85320" y="99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31560" y="2087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比较，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520" y="3505320"/>
            <a:ext cx="25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而计其长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曾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不盈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89548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尚，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972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56040" y="1066680"/>
            <a:ext cx="1667880" cy="1602000"/>
            <a:chOff x="3056040" y="1066680"/>
            <a:chExt cx="1667880" cy="1602000"/>
          </a:xfrm>
        </p:grpSpPr>
        <p:sp>
          <p:nvSpPr>
            <p:cNvPr id="102" name=""/>
            <p:cNvSpPr/>
            <p:nvPr/>
          </p:nvSpPr>
          <p:spPr>
            <a:xfrm>
              <a:off x="3369240" y="20872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53680" y="1066680"/>
              <a:ext cx="147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56040" y="137160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970440" y="2971800"/>
            <a:ext cx="1667880" cy="1602000"/>
            <a:chOff x="3970440" y="2971800"/>
            <a:chExt cx="1667880" cy="1602000"/>
          </a:xfrm>
        </p:grpSpPr>
        <p:sp>
          <p:nvSpPr>
            <p:cNvPr id="106" name=""/>
            <p:cNvSpPr/>
            <p:nvPr/>
          </p:nvSpPr>
          <p:spPr>
            <a:xfrm>
              <a:off x="4283640" y="39924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8080" y="2971800"/>
              <a:ext cx="147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70440" y="32767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6000" y="4800600"/>
            <a:ext cx="1668240" cy="1602000"/>
            <a:chOff x="2286000" y="4800600"/>
            <a:chExt cx="1668240" cy="1602000"/>
          </a:xfrm>
        </p:grpSpPr>
        <p:sp>
          <p:nvSpPr>
            <p:cNvPr id="110" name=""/>
            <p:cNvSpPr/>
            <p:nvPr/>
          </p:nvSpPr>
          <p:spPr>
            <a:xfrm>
              <a:off x="2599200" y="58212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83640" y="480060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51055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13200" y="533412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⑤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矫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首昂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6444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46880" y="579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矫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124080" y="4876920"/>
            <a:ext cx="1668240" cy="1602000"/>
            <a:chOff x="3124080" y="4876920"/>
            <a:chExt cx="1668240" cy="1602000"/>
          </a:xfrm>
        </p:grpSpPr>
        <p:sp>
          <p:nvSpPr>
            <p:cNvPr id="118" name=""/>
            <p:cNvSpPr/>
            <p:nvPr/>
          </p:nvSpPr>
          <p:spPr>
            <a:xfrm>
              <a:off x="3437280" y="58975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1720" y="487692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518184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67080" y="3124080"/>
            <a:ext cx="1668240" cy="1602000"/>
            <a:chOff x="4267080" y="3124080"/>
            <a:chExt cx="1668240" cy="1602000"/>
          </a:xfrm>
        </p:grpSpPr>
        <p:sp>
          <p:nvSpPr>
            <p:cNvPr id="122" name=""/>
            <p:cNvSpPr/>
            <p:nvPr/>
          </p:nvSpPr>
          <p:spPr>
            <a:xfrm>
              <a:off x="4580280" y="41446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4720" y="312408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42900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43400" y="1295280"/>
            <a:ext cx="1668240" cy="1602000"/>
            <a:chOff x="4343400" y="1295280"/>
            <a:chExt cx="1668240" cy="1602000"/>
          </a:xfrm>
        </p:grpSpPr>
        <p:sp>
          <p:nvSpPr>
            <p:cNvPr id="126" name=""/>
            <p:cNvSpPr/>
            <p:nvPr/>
          </p:nvSpPr>
          <p:spPr>
            <a:xfrm>
              <a:off x="4656600" y="23158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41040" y="129528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160020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23600" y="1805040"/>
            <a:ext cx="28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舟首尾长约八分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0428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0428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" y="3657600"/>
            <a:ext cx="28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桃核修狭者为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83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挑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83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360" y="5386320"/>
            <a:ext cx="20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罔不因势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象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9880" y="4876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雕刻各种事物的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9840" y="5867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六书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峨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而多髯者为东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箬篷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覆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石青糁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5760" y="2438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名词用作动词，戴着高高的帽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0000" y="3962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名词作状语，用箬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0520" y="541008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石青：名词作状语，用石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糁：名词作动词，涂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7-18T07:06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